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3D6A-17D7-4043-93AF-C5307911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8121-985D-41DB-98D4-2885617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813C-4F90-4D04-BA43-9A0C92D8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8433-F588-44BB-8D87-6AB6F338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132-AB13-4986-B40A-F61B9324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BA58-6672-4A09-AB39-88610F5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CB80-DCBF-479A-A7A9-FBBBB9FB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E658-6C25-4962-BD26-3E41FFE5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2259-47EA-4116-837C-8B0FF48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E8AD-5E2E-4779-A678-E5885C8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33AF-0B06-4EE7-92C6-6834FE08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5995-2ADB-4565-BE3F-2B19C87D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D3F3-350C-4898-BB48-1CA7B39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763A-BF6E-48B4-807A-C318E3B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5CDF-3965-43D8-9674-6E31E10A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FFC9-39C2-4C72-A62D-3DBC8D00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36D2-0636-4755-B7E7-90F39B24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9DFA-1252-4FB8-9973-26E3BC4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8AFF-59CC-4840-A906-879C5ACA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63FD-638C-4BDC-A5F0-2E2D7A29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C7F7-4963-4703-BD70-DF369DB3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7C81-FEF7-4236-B3A8-A69D878B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FEA7-E707-4B28-BE40-5E1B415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76A2-45E9-4C83-8273-5858491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3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6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6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57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57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3b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8041-7519-4BD4-B3EE-568EB84E9401}" type="slidenum"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62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e7e7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c3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1a181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b7b6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2826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a9a7b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9a9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9a987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d0a6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fdfb2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7d7a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8c8a0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a8a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9292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0d000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29275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a8a6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b1b18d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0c099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7e7b8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3634f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99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83B1-A6E3-4BBD-B4E4-908CE43B13F4}" type="slidenum">
              <a:rPr b="0" lang="en-US" sz="12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youtube.com/watch?v=so8J8MvCNfw&amp;feature=related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62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The Middle Ages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ngland &amp; France Develop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Mr. Pagliaro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Government-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Developments in England and France during the High Middle Ages greatly influenced American government.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escribe the various invaders who contributed to English culture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xplain how England’s government progressed towards democracy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Describe the Capetian dynasty’s influence on France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ommon law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arliamen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agna Carta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apetian Dynasty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Estates-General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ame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Alfred the Grea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Anglo-Saxon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anute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Dane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William the Conqueror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Norman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enry II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Edward I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Hugh Cape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hilip II Augustu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Philip IV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arly Englan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Alfred the Grea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United Anglo-Saxon territories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anute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Merged Anglo-Saxons and Danish territories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Edward the Confessor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Last Anglo-Saxon king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Kings prior to 1066-elected by Witenagemot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25" name="">
            <a:hlinkClick r:id="rId5"/>
          </p:cNvPr>
          <p:cNvSpPr/>
          <p:nvPr/>
        </p:nvSpPr>
        <p:spPr>
          <a:xfrm>
            <a:off x="3962520" y="5791320"/>
            <a:ext cx="1447560" cy="914400"/>
          </a:xfrm>
          <a:custGeom>
            <a:avLst/>
            <a:gdLst>
              <a:gd name="textAreaLeft" fmla="*/ 59040 w 1447560"/>
              <a:gd name="textAreaRight" fmla="*/ 1388520 w 14475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89" h="21600">
                <a:moveTo>
                  <a:pt x="0" y="0"/>
                </a:moveTo>
                <a:lnTo>
                  <a:pt x="34189" y="0"/>
                </a:lnTo>
                <a:lnTo>
                  <a:pt x="34189" y="21600"/>
                </a:lnTo>
                <a:lnTo>
                  <a:pt x="0" y="21600"/>
                </a:lnTo>
                <a:close/>
              </a:path>
              <a:path fill="lightenLess" w="34189" h="21600">
                <a:moveTo>
                  <a:pt x="0" y="0"/>
                </a:moveTo>
                <a:lnTo>
                  <a:pt x="34189" y="0"/>
                </a:lnTo>
                <a:lnTo>
                  <a:pt x="32789" y="1400"/>
                </a:lnTo>
                <a:lnTo>
                  <a:pt x="1400" y="1400"/>
                </a:lnTo>
                <a:close/>
              </a:path>
              <a:path fill="darken" w="34189" h="21600">
                <a:moveTo>
                  <a:pt x="34189" y="0"/>
                </a:moveTo>
                <a:lnTo>
                  <a:pt x="34189" y="21600"/>
                </a:lnTo>
                <a:lnTo>
                  <a:pt x="32789" y="20200"/>
                </a:lnTo>
                <a:lnTo>
                  <a:pt x="32789" y="1400"/>
                </a:lnTo>
                <a:close/>
              </a:path>
              <a:path fill="darkenLess" w="34189" h="21600">
                <a:moveTo>
                  <a:pt x="34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89" y="20200"/>
                </a:lnTo>
                <a:close/>
              </a:path>
              <a:path fill="lighten" w="34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89" h="21600">
                <a:moveTo>
                  <a:pt x="10088" y="3794"/>
                </a:moveTo>
                <a:lnTo>
                  <a:pt x="24101" y="10800"/>
                </a:lnTo>
                <a:lnTo>
                  <a:pt x="10088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Norman Invasion of Englan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Battle of Hastings (Oct. 14, 1066)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William, Duke of Normandy def. Harold Godwinson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Norman King of England = French Vassal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Bayeux Tapestry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905120" y="3733920"/>
            <a:ext cx="6943680" cy="2324160"/>
            <a:chOff x="1905120" y="3733920"/>
            <a:chExt cx="6943680" cy="2324160"/>
          </a:xfrm>
        </p:grpSpPr>
        <p:pic>
          <p:nvPicPr>
            <p:cNvPr id="529" name="" descr="William Rides To War scene 3 - Bayeux Tapestry"/>
            <p:cNvPicPr/>
            <p:nvPr/>
          </p:nvPicPr>
          <p:blipFill>
            <a:blip r:embed="rId3"/>
            <a:stretch/>
          </p:blipFill>
          <p:spPr>
            <a:xfrm>
              <a:off x="1905120" y="4343400"/>
              <a:ext cx="619128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 txBox="1"/>
            <p:nvPr/>
          </p:nvSpPr>
          <p:spPr>
            <a:xfrm>
              <a:off x="5181480" y="3733920"/>
              <a:ext cx="3667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illiam's Army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62120" y="5143680"/>
            <a:ext cx="7867440" cy="1714320"/>
            <a:chOff x="762120" y="5143680"/>
            <a:chExt cx="7867440" cy="1714320"/>
          </a:xfrm>
        </p:grpSpPr>
        <p:pic>
          <p:nvPicPr>
            <p:cNvPr id="532" name="" descr="The Battle Of Hastings scene 2 - Bayeux Tapestry"/>
            <p:cNvPicPr/>
            <p:nvPr/>
          </p:nvPicPr>
          <p:blipFill>
            <a:blip r:embed="rId4"/>
            <a:stretch/>
          </p:blipFill>
          <p:spPr>
            <a:xfrm>
              <a:off x="762120" y="5143680"/>
              <a:ext cx="61912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 txBox="1"/>
            <p:nvPr/>
          </p:nvSpPr>
          <p:spPr>
            <a:xfrm>
              <a:off x="4572000" y="6210360"/>
              <a:ext cx="4057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Two Armi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52480" y="2133720"/>
            <a:ext cx="6267600" cy="4545000"/>
            <a:chOff x="1752480" y="2133720"/>
            <a:chExt cx="6267600" cy="4545000"/>
          </a:xfrm>
        </p:grpSpPr>
        <p:grpSp>
          <p:nvGrpSpPr>
            <p:cNvPr id="535" name=""/>
            <p:cNvGrpSpPr/>
            <p:nvPr/>
          </p:nvGrpSpPr>
          <p:grpSpPr>
            <a:xfrm>
              <a:off x="1752480" y="2133720"/>
              <a:ext cx="6267600" cy="4545000"/>
              <a:chOff x="1752480" y="2133720"/>
              <a:chExt cx="6267600" cy="4545000"/>
            </a:xfrm>
          </p:grpSpPr>
          <p:pic>
            <p:nvPicPr>
              <p:cNvPr id="5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2480" y="2133720"/>
                <a:ext cx="6267600" cy="454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5638680" y="2438640"/>
                <a:ext cx="1676520" cy="1219320"/>
              </a:xfrm>
              <a:prstGeom prst="ellipse">
                <a:avLst/>
              </a:prstGeom>
              <a:noFill/>
              <a:ln w="572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99ff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 txBox="1"/>
            <p:nvPr/>
          </p:nvSpPr>
          <p:spPr>
            <a:xfrm>
              <a:off x="2209680" y="5105520"/>
              <a:ext cx="36673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arold's Deat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52280" y="5715000"/>
            <a:ext cx="1981440" cy="914400"/>
          </a:xfrm>
          <a:custGeom>
            <a:avLst/>
            <a:gdLst>
              <a:gd name="textAreaLeft" fmla="*/ 59040 w 1981440"/>
              <a:gd name="textAreaRight" fmla="*/ 1922400 w 1981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3794"/>
                </a:moveTo>
                <a:lnTo>
                  <a:pt x="30404" y="10800"/>
                </a:lnTo>
                <a:lnTo>
                  <a:pt x="16391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571500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7" h="21600">
                <a:moveTo>
                  <a:pt x="16387" y="3794"/>
                </a:moveTo>
                <a:lnTo>
                  <a:pt x="30400" y="10800"/>
                </a:lnTo>
                <a:lnTo>
                  <a:pt x="16387" y="17806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Domesday Book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illiam’s census-1086</a:t>
            </a:r>
            <a:endParaRPr b="0" lang="en-US" sz="32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Listed 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Mill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Oven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cres of land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oper taxe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Plantagenet Dynast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Henry II-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ign: 1154-1189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Common law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Jury Trials with King’s Court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John (Lackland)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ign: 1199-1216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Forced to agree to Magna Carta – 1215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Edward I (Longshanks)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ign: 1272-1307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odel Parliament - 1295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8"/>
          <a:stretch/>
        </p:blipFill>
        <p:spPr>
          <a:xfrm>
            <a:off x="6056280" y="2133720"/>
            <a:ext cx="3087720" cy="4724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File:Joao sem terra assina carta Magna.jpg"/>
          <p:cNvPicPr/>
          <p:nvPr/>
        </p:nvPicPr>
        <p:blipFill>
          <a:blip r:embed="rId9"/>
          <a:stretch/>
        </p:blipFill>
        <p:spPr>
          <a:xfrm>
            <a:off x="6248520" y="1295280"/>
            <a:ext cx="2711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Hugh Capet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3399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Capetian King; controlled Pari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hilip II Augustus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captured English held French territories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Maine, Anjou, Touraine and parts of Normandy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hilip IV</a:t>
            </a:r>
            <a:endParaRPr b="0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Added Third Estate (the people) to the Estates-General</a:t>
            </a:r>
            <a:endParaRPr b="0" lang="en-US" sz="24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99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Estate = Clergy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3399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Estate = Nobles</a:t>
            </a:r>
            <a:endParaRPr b="0" lang="en-US" sz="2000" spc="-1" strike="noStrike">
              <a:solidFill>
                <a:srgbClr val="3399ff"/>
              </a:solidFill>
              <a:latin typeface="Arial"/>
            </a:endParaRPr>
          </a:p>
        </p:txBody>
      </p:sp>
      <p:pic>
        <p:nvPicPr>
          <p:cNvPr id="549" name="" descr="File:Conquetes Philippe Auguste.gif"/>
          <p:cNvPicPr/>
          <p:nvPr/>
        </p:nvPicPr>
        <p:blipFill>
          <a:blip r:embed="rId7"/>
          <a:stretch/>
        </p:blipFill>
        <p:spPr>
          <a:xfrm>
            <a:off x="9144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5:46:59Z</dcterms:created>
  <dc:creator>cpagliaro</dc:creator>
  <dc:description/>
  <dc:language>en-US</dc:language>
  <cp:lastModifiedBy>cpagliaro</cp:lastModifiedBy>
  <dcterms:modified xsi:type="dcterms:W3CDTF">2009-04-24T17:09:37Z</dcterms:modified>
  <cp:revision>6</cp:revision>
  <dc:subject/>
  <dc:title>The Middle Ages</dc:title>
</cp:coreProperties>
</file>